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0CDAECFD-CF74-40E3-80A8-4D562317172E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9D6AC19C-22A2-497A-B33A-234B6E09ECB9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DEE-DCF7-4F95-BB7E-F4D0CDFE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40E-7B3C-4AD4-9274-1170C582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7A8-F4AB-42D3-92CC-81AAF631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B5E-E7EE-405E-8DD0-2EB45FDC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8D8-C9F4-4818-9632-A6167D7B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96D-03BE-4A23-868D-F7BE5FE8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019-02EC-4B2A-8D20-B66BC2FC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15E-8CD7-4B46-A6CF-D81401CE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F04-C726-4AE9-B62D-9029C1AB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2DE-FC26-4CEE-8D75-AA152786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94A-C351-44C8-B160-E0F2D924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9F1-CA76-4826-8F74-19A9881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41D8-5259-40F7-A44A-4B67091582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Acondicionam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recipientes com mais de 100 litros, o funcionário encarregado da coleta deverá dispor de carrinho para o transporte até o veículo coletor. Alguns garis da coleta preferem “rolar” os latões de 200 li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6697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50920" y="20606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fícios e estabelecimentos de grande porte podem utilizar contenedores de maior capacidade providos de tampa e rodízios, desde que se conte com veículo coletor que possua dispositivo para basculá-los mecan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50920" y="364500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m retorno são colocados no veículo coletor juntamente com o lixo que contêm, sendo mais utilizados os sacos plásticos, com capacidade geralmente entre 20 e 100 litros, devendo apresentar espessura suficiente para não romper durante a co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2222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bora sejam ideais para o acondicionamento do ponto de vista sanitário e de agilização da coleta, 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cos plástic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presentam os seguintes aspectos desfavoráve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50920" y="3141720"/>
            <a:ext cx="424980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fragilidade em relação a materiais cortantes ou perfur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ço elevado que pode tornar inviável sua adoção pela população de baixa r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smo assim, pela economia que trazem ao serviço, e aconselhável a sua adoção obrigatória nas áreas de comércio mais ativo e nas concentradoras de população de maior poder aqui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303280" cy="219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4"/>
          <a:stretch/>
        </p:blipFill>
        <p:spPr>
          <a:xfrm>
            <a:off x="5292720" y="5157720"/>
            <a:ext cx="30481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250920" y="296532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 a boa disposição do administrador e a execução, pela população, dos procedimentos propostos para acondicionamento do lixo, há uma grande barreira: os recipientes para lixo são caros para a maioria da população urbana brasileira que é muito pobre! Há o risco de lixo virar lux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50920" y="49975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Nordeste, por exemplo, são comuns os recipientes para lixo feitos a partir de pneus usados de automóveis ou caminhões. A solução, se não é tecnicamente perfeita, é operacionalmente aceitável e ainda gera emprego para artesã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50920" y="29653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ontenedor de lixo é, portanto, confeccionado a partir de um só pneu usado. Seu tamanho e forma dependerão do tipo de pneu utilizado, bem como da seção cortada para se fazer o f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50920" y="4221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tal promover em sua cidade um programa para confecção de tais tipos de recipientes por parte de mão-de-obra não qualificada ou de menores carentes em áreas de baixa re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250920" y="54468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traria vantagens para a Prefeitura, tornando mais fácil a coleta de lixo. Por outro lado, iria proporcionar os recursos necessários à subsistência de pessoas que estão precisando trabal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nde começam os problemas para o serviço de limpeza Urbana de sua cida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a pergunta, certamente, poucas pessoas responderão: “Em nossas próprias residências”. Pois é exatamente esta a resposta corr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9" descr=""/>
          <p:cNvPicPr/>
          <p:nvPr/>
        </p:nvPicPr>
        <p:blipFill>
          <a:blip r:embed="rId4"/>
          <a:stretch/>
        </p:blipFill>
        <p:spPr>
          <a:xfrm>
            <a:off x="2843280" y="3141720"/>
            <a:ext cx="5914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1484280"/>
            <a:ext cx="85690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bora seja possível definir o tipo de acondicionamento tecnicamente mais adequado para cada situação, sua padronização é muito difícil porque tal atribuição é do usuá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ando que “o ótimo é inimigo do bom”, os esforços da Municipalidade deverão ser concentrados no sentido de conscientizar a população para que procure acondicionar, da melhor maneira possível o lixo gerado em cada domicíl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4"/>
          <a:stretch/>
        </p:blipFill>
        <p:spPr>
          <a:xfrm>
            <a:off x="1979640" y="4149720"/>
            <a:ext cx="489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relação à adequação do acondicionamento à coleta, o recipiente apropriado para lixo deve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71640" y="2349360"/>
            <a:ext cx="74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der às condições sanitá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 feio, repulsivo ou desagradáv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 capacidade para conter o lixo gerado durante o intervalo entre uma coleta e out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ir uma coleta rápida, aumentando com isso a produtividade do serviç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tar uma manipulação segura por parte da equipe de co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6973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50920" y="242100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as vezes, existe a necessidade de se transportar o lixo gerado já de alguma maneira acondicionado até o local indicado para a sua remo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duas alternativas mais comumente utilizada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2124000" y="3716280"/>
            <a:ext cx="48974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3"/>
          <a:stretch/>
        </p:blipFill>
        <p:spPr>
          <a:xfrm>
            <a:off x="7564320" y="3284640"/>
            <a:ext cx="1471680" cy="3456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250920" y="4221000"/>
            <a:ext cx="7200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do em situações especiais, como por exemplo em hospitais, o seu uso acarreta as seguintes 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ntuada redução de peso e volume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tamento sanitário excelente do lixo, desde que operado adequada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dade de geração de vapor ou água quente para uso no próprio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50920" y="4221000"/>
            <a:ext cx="72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incipais aspectos negativos, quanto ao seu emprego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oluição atmosférica que pode ocasion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xigência de manutenção especializ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do combustível uti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"/>
          <p:cNvPicPr/>
          <p:nvPr/>
        </p:nvPicPr>
        <p:blipFill>
          <a:blip r:embed="rId3"/>
          <a:stretch/>
        </p:blipFill>
        <p:spPr>
          <a:xfrm>
            <a:off x="5076720" y="4653000"/>
            <a:ext cx="37674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38400" y="4292640"/>
            <a:ext cx="269532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ctadores de l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50920" y="51768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modelos para prensagem vertical ou horizontal. O compactador é capaz de reduzir até quatro vezes o volume inicial. São empregados em grandes edifícios onde a geração de lixo é muito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2060640"/>
            <a:ext cx="8569080" cy="44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escolher o tipo apropriado de acondicionamento? Bem, para isto entram em consideração os seguintes fa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s características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sua ger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freqüência com que a coleta é fei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ipo de edific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ço do recip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i será preciso fazer distinção entre: recipientes com retorno e sem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rimeiros são os devolvidos pelo coletor após o esvazi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44100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7:25Z</dcterms:modified>
  <cp:revision>208</cp:revision>
  <dc:subject/>
  <dc:title>Slide 1</dc:title>
</cp:coreProperties>
</file>